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AA0B-7C4F-4AFF-B9FD-909C7CB82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pdrag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ewcoventgardenmarket.com/blog/flower-market-report-jul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uzzle.com/articles/incomplete-dominance-exampl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2.estrellamountain.edu/faculty/farabee/BIOBK/biobookgeninterac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his is from a very cool website with animated images…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eneticsrus.org/Genes/exception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joannelovesscience.com/2009.12.06_arch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n c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georgiasouthern.edu/bio-home/harvey/lect/lectures.html?flnm=gen2&amp;ttl=Sources%20of%20Variation:%20genes&amp;ccode=el&amp;mda=sc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me.comcast.net/~mjmayhew42/Biology%20notes/multiple%20alleles%20not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corner.com/APbiology/inheritance/11-5_beyond_mende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EF6-5CAE-4504-80E9-F9140903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75C-DD4F-4C4A-8D9E-8519368B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92DC-4092-4255-AE63-D133BE9A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63FE-C787-420A-95D6-6C30758C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28F0-9E0E-4D1B-BD51-1CCBEB6C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794B-BF54-4710-8AE2-59109DD9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160-56AB-4250-9574-4D02DB4C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CA3-ED7B-4F78-A345-FC845E12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3ED-DB6B-47FE-BD4C-1E41F935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6A7-B57F-460A-93CA-833E22DE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BD9-14DE-44D0-A095-7DB8992C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A47-28D5-49DB-B1D9-A28AB22F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1F89-953C-4483-B8E6-A5E311BC7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 Variations In Here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its in Mendel’s pea plants exhibit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lleles interact to produc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pheno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 this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plete 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apdra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01800" y="1981080"/>
            <a:ext cx="3738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17720" y="609480"/>
            <a:ext cx="7107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7960" y="609480"/>
            <a:ext cx="6326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min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th alleles are expressed at the same time, producing a mixed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43400" y="2224080"/>
            <a:ext cx="44956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874800"/>
            <a:ext cx="77724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89280" y="609480"/>
            <a:ext cx="5365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8:55:53Z</dcterms:created>
  <dc:creator>rubina khan</dc:creator>
  <dc:description/>
  <dc:language>en-US</dc:language>
  <cp:lastModifiedBy>rubina khan</cp:lastModifiedBy>
  <dcterms:modified xsi:type="dcterms:W3CDTF">2014-10-16T02:47:35Z</dcterms:modified>
  <cp:revision>80</cp:revision>
  <dc:subject/>
  <dc:title>Genetic Processes</dc:title>
</cp:coreProperties>
</file>